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564B-7936-49CD-9C0A-13B47F9B03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JAV notarizavimas – sec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2 (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9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p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ektroninio parašo direktyvo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Reikalavimai taikomi saugiam arba patobulintam el. parašui –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Uncitral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 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p. įstatym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 str. 5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str. 3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. Para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7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4FD-CEFF-48AB-B3FA-5E0FE8CF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068-2320-4440-B2E1-C2CABBBB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710-FBC3-4D00-81D7-3C6F3F24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E62-9A1D-43DE-9B6A-DA685753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BE23-591A-4344-8025-D37A8070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AD85-7695-41B2-A6E3-FFAE363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B8D1-0E7F-4FDA-88FD-2E571742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75DC-92A4-4B32-B348-93BC6FF2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BCE9-24F0-49F5-B842-81082B26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0097-E128-49D8-924A-DF978B78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586D-E44A-4CAC-A0EF-65F584D9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71F-540E-483B-BD12-07F945C8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C788-0F16-452A-B913-6D429109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BC58-8554-446D-A4B8-6B6F618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CD8F-3392-47B9-B4A4-A4464843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6AFF-4A77-4A7E-A03A-EA481386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97E5-D1A8-44E2-94D4-D52F638F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B3B-5D93-4902-B406-A79454F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D69-466D-4DF6-BA3A-B6F8925B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4CF-8006-4F46-9EE8-5517F719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3B1-B35B-4560-8883-D4CF5BC5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DC5-11CD-4EB4-B25F-B468EC46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381-9885-4512-899E-5E94C1B2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21A-CD10-4B70-91AD-7ACA3F86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-03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3366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8D48-9728-418D-B31F-C29A03C799C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56A9-8AA5-46AF-AD03-2B2B921345E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is paraša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c3300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ugus e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ktroninis parašas, sukurtas saugia parašo formavimo įranga ir patvirtintas galiojančiu kvalifikuotu sertifikatu, elektroniniams duomenims turi tokią pačią teisinę galią kaip ir parašas rašytiniuose (ES – popieriniuose) dokumentuose ir yra priimtinas kaip įrodymas teismo proce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rašas nepraranda teisinės galios dėl to, k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yra elektronin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grįstas kvalifikuotu sertifika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remtas kvalifikuotu sertifikatu, išduotu akredituoto sertifikavimo paslaugų teikėj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sukurtas saugia parašo formavimo įrang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 princip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R Elektroninio parašo įstatym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traipsni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 dalis,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o parašo direktyvos preambulė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unktas, UNCITRAL pavyzdinio įstatymo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straipsn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etaikoma, kai egzistuoja notarizavimo ar registravimo reikalavim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notarizavimas: JAV, Kanados Kvebeko provincija, Prancūz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kaitmeninio parašo naudojimo procedū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webguard02_dsv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ertifik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tas 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ktroninis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iudijimas, kuris susieja pasirašantįjį su parašo tikrinimo duomenimis (ES ir LT - ir patvirtina to asmens tapatyb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vimo paslaugų teikėjas – išduoda sertifikatą, suteikia teisę bet ka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?&gt;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pažinti su jo duomenimis ir teikia susijusias paslau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ertifikavimo paslaugų teikėj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pra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specialių reikalavimų neatitinka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šduodantys kvalifikuotus sertifik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aiškią teisinę galią turi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kredituo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vanoriškai gavę valstybės patvirtinimą, kad atitinka keliamus reikalavim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valifikuotų sertifikatų  išd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ietuv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ūtinas registravi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Registruotų paslaugų teikėjų išduoti sertifikatai naudojami tik susirašinėjimui su valstybės ir savivaldybių institucijom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Sąjung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ik savanoriškas akreditavimas – kiekvienas leidimas, susijęs su sertifikavimo paslaugų teikimu, suteiktas sertifikavimo paslaugų teikėjo prašy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šankstinių leidimų sistema draudži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Preambulė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, 12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 punktai, Direktyvo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t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paslaugų teikėjas atitinka bendrus     reikalavimus ir savanoriškai akreditavosi ES arba Lietuvoje (netaikomas registravimosi reikalav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sertifikatas garantuotas ES (Lietuvoje) veikiančio sertifikavimo paslaugų teikėjo, atitinkančio reikalavimus, nustatytus kvalifikuotiems tiekėj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 pagal tarptautinę sutart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CITR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diskriminavimas geografiniu pagrin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uri būti pripažintas, jei garantuoja pakankamai lygiavertį patikimumo lyg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Šalių susitarimo pripažin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m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ampr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reguliavimo bū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g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kaitmeninio parašo naudojimo procedū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ert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žsienio sertifikatų pripaž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ampr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parašas suprantamas kaip duomenys, kurie susiejami su kitais (pasirašomais) elektroniniais duomenimis ir atlieka pasirašiusio asmens identifikavimo funkciją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UNCITRAL 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r liudija, kad asmuo patvirtino pasirašytą informaciją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ardo ir ar pavardės nurod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N (Židrūnas Šapalas v. AB “Lietuvos taupomasis bank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Kriptografinės priemonės (skaitmeninis paraš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iometrinės priemonė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reguliavimo būd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škai neutr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ios technologijo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bstraktus elektroninio parašo galimybė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vyzdžiai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Kalifornijos valst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federalini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škai neutralus (dualistinis)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statymas nesusietų su konkrečia technologija reikalavimų, kurie užtikrina, kad elektroninis parašas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ir LT -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ugus ar patobulintas (advanced)) patikimai funkciškai atitiktų paprastą paraš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CITRAL pavyzdinis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direkty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ikalavimai saugiam el. paraš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ik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Vienareikšmiškai susietas su pasirašančiu asmeni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avima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eidžia identifikuoti pasirašantį asmen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aug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kurtas priemonėmis, kurias gali tvarkyti tik pasirašantis asmuo savo val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ntegr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sijęs su pasirašytais duomenimis taip, kad bet koks šių duomenų pakeitimas yra pastebi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 –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galimybė pastebėti bet kokį parašo pakitim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ios technologijos įtvir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s tik 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skaitmeninis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paraš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s parašas, kuris kuriamas naudojant viešojo rakto technologiją (PKI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irmasis reguliavimo bū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JAV Jutos valst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rgentin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alaiz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ksčiau - Vokiet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ik fizinis asmu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, Bulgarijos Elektroninio dokumento ir elektroninio parašo įstatymas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r fiziniai, ir juridiniai asme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, UNCITRAL, Slovėn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ecialu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tstovaujamojo (pvz., j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ridinio asmen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 teisė kontroliuoti sertifikatus, kuriuose yra informacijos apie jį (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etuva,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lovėn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Juridinio asmens atstovo para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šo prilyginimas parašui ir antspaud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6:19:43Z</dcterms:created>
  <dc:creator>tomlmn</dc:creator>
  <dc:description/>
  <dc:language>en-US</dc:language>
  <cp:lastModifiedBy>tlamanauskas</cp:lastModifiedBy>
  <dcterms:modified xsi:type="dcterms:W3CDTF">2004-11-22T09:36:52Z</dcterms:modified>
  <cp:revision>27</cp:revision>
  <dc:subject/>
  <dc:title>Savireguliacija Interne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25289306</vt:r8>
  </property>
  <property fmtid="{D5CDD505-2E9C-101B-9397-08002B2CF9AE}" pid="3" name="_AuthorEmail">
    <vt:lpwstr>tlamanauskas@rrt.lt</vt:lpwstr>
  </property>
  <property fmtid="{D5CDD505-2E9C-101B-9397-08002B2CF9AE}" pid="4" name="_AuthorEmailDisplayName">
    <vt:lpwstr>Tomas Lamanauskas</vt:lpwstr>
  </property>
  <property fmtid="{D5CDD505-2E9C-101B-9397-08002B2CF9AE}" pid="5" name="_EmailSubject">
    <vt:lpwstr>Del Informatikos Teisiu konspektu</vt:lpwstr>
  </property>
</Properties>
</file>